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77F-C524-400B-B3A1-CA0964A1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105-750B-4700-B285-46EF9513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488-1FE4-4557-99AD-BCCEF4D7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1AE-36C2-4FE3-88B3-638E66DB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608-3920-49F5-AE47-034B2A2C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FF1-F62A-4AA6-87B7-31869B69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AF3-E609-450C-A2A5-869D0B50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1BE4-05E9-4503-B4B2-0399EB8D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16D-0A6C-4250-8CB8-2C15DBC3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CEB-8F2F-4DA6-8E2F-BDDE3609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914-7765-462D-9676-5B7A377B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A2C-0949-46A1-9350-03D3BE8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E666-62E2-4170-A13C-D19C6FF83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wingclips.com/movie-clips/holiday-for-love/make-a-fool-of-yourself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11-29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discover and analyze the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message is the author trying to get across in the following cl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ngclips.com/movie-clips/holiday-for-love/make-a-fool-of-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made about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riter’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writer wants you to remember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 needs to be based on certain things characters say and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clues the author gives you together to uncover the 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message understood by all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PIC is friend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possible themes associated with friend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2240" y="36180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come and go in 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9640" y="415440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Friends can get people through the most difficult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160" y="4687920"/>
            <a:ext cx="84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riendship is one of the most satisfying thing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About T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152280"/>
            <a:ext cx="8228880" cy="4524480"/>
            <a:chOff x="380880" y="152280"/>
            <a:chExt cx="8228880" cy="4524480"/>
          </a:xfrm>
        </p:grpSpPr>
        <p:cxnSp>
          <p:nvCxnSpPr>
            <p:cNvPr id="52" name="_s5135"/>
            <p:cNvCxnSpPr>
              <a:stCxn id="53" idx="0"/>
              <a:endCxn id="54" idx="2"/>
            </p:cNvCxnSpPr>
            <p:nvPr/>
          </p:nvCxnSpPr>
          <p:spPr>
            <a:xfrm flipV="1" rot="16200000">
              <a:off x="5642640" y="813600"/>
              <a:ext cx="905400" cy="32007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5132"/>
            <p:cNvCxnSpPr>
              <a:stCxn id="56" idx="0"/>
              <a:endCxn id="54" idx="2"/>
            </p:cNvCxnSpPr>
            <p:nvPr/>
          </p:nvCxnSpPr>
          <p:spPr>
            <a:xfrm flipV="1" rot="16200000">
              <a:off x="4575960" y="1880280"/>
              <a:ext cx="905400" cy="106704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5131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3509280" y="1880280"/>
              <a:ext cx="905400" cy="10674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5130"/>
            <p:cNvCxnSpPr>
              <a:stCxn id="60" idx="0"/>
              <a:endCxn id="54" idx="2"/>
            </p:cNvCxnSpPr>
            <p:nvPr/>
          </p:nvCxnSpPr>
          <p:spPr>
            <a:xfrm flipH="1" flipV="1" rot="5400000">
              <a:off x="2442600" y="813600"/>
              <a:ext cx="905400" cy="3201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4" name="_s5126"/>
            <p:cNvSpPr/>
            <p:nvPr/>
          </p:nvSpPr>
          <p:spPr>
            <a:xfrm>
              <a:off x="3581280" y="1522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acis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5127"/>
            <p:cNvSpPr/>
            <p:nvPr/>
          </p:nvSpPr>
          <p:spPr>
            <a:xfrm>
              <a:off x="380880" y="286704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allaces, Simmse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nd other whit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isrespect the Loga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nd T.J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5128"/>
            <p:cNvSpPr/>
            <p:nvPr/>
          </p:nvSpPr>
          <p:spPr>
            <a:xfrm>
              <a:off x="2514240" y="286704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ama explains som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hites think black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ren’t equal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5129"/>
            <p:cNvSpPr/>
            <p:nvPr/>
          </p:nvSpPr>
          <p:spPr>
            <a:xfrm>
              <a:off x="4647960" y="286704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lacks have bee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urned or lynche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by white me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5134"/>
            <p:cNvSpPr/>
            <p:nvPr/>
          </p:nvSpPr>
          <p:spPr>
            <a:xfrm>
              <a:off x="6781320" y="286704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Papa gets shot and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T.J. gets beate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819520" y="4191120"/>
            <a:ext cx="3352680" cy="25146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ho don’t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can o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 unfairly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be danger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601992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569640" y="524088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80760" y="244440"/>
            <a:ext cx="14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8157000">
            <a:off x="5790960" y="990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3360" y="5410080"/>
            <a:ext cx="24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Evidence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and d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800600"/>
            <a:ext cx="48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668800">
            <a:off x="1904760" y="4495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think is the theme in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arrison Berger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1" name="_s8204"/>
            <p:cNvCxnSpPr>
              <a:stCxn id="72" idx="0"/>
              <a:endCxn id="73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8203"/>
            <p:cNvCxnSpPr>
              <a:stCxn id="75" idx="0"/>
              <a:endCxn id="73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8202"/>
            <p:cNvCxnSpPr>
              <a:stCxn id="77" idx="0"/>
              <a:endCxn id="73" idx="2"/>
            </p:cNvCxnSpPr>
            <p:nvPr/>
          </p:nvCxnSpPr>
          <p:spPr>
            <a:xfrm flipH="1" flipV="1" rot="5400000">
              <a:off x="2680200" y="2422800"/>
              <a:ext cx="905400" cy="287820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8198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8199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vidence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8200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vidence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8201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vidence 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 the following question in your Reading Response Jour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the theme in your short stor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aphic organiz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FORE you write in your RR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first about the topic.  Then, use at least two pieces of text evidence to support your ana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1:57:01Z</dcterms:created>
  <dc:creator>Administrator</dc:creator>
  <dc:description/>
  <dc:language>en-US</dc:language>
  <cp:lastModifiedBy>Administrator</cp:lastModifiedBy>
  <dcterms:modified xsi:type="dcterms:W3CDTF">2010-11-30T18:59:30Z</dcterms:modified>
  <cp:revision>14</cp:revision>
  <dc:subject/>
  <dc:title>Theme</dc:title>
</cp:coreProperties>
</file>